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2F2C-9710-455B-A3E8-2C5298968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3E17-E460-427F-B910-B7564478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402B-D485-41BB-A931-6B253F83C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10AC-79D5-4801-85F6-5099F79DF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BF04-2492-4C1A-98BD-485F02DA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629-2CF1-42AA-BB16-FB8E50F69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9230-CB13-41DF-AAB8-70AA478A2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D1D9-D69E-4705-986E-722D37B7D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881-5A06-4281-8EFC-2A109BBB2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34E-29A4-4560-88DE-1FDAAB7C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FAC-1C8D-4015-9EB6-26D57EBF8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515A-2AB7-4450-9FBB-D96844AB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015F0-DA73-48BB-AD4D-0FD0F75C66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1341000"/>
            <a:ext cx="6966000" cy="349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Обобщающий урок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по теме 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«Беспозвоночные животные»</a:t>
            </a:r>
            <a:br>
              <a:rPr sz="4800"/>
            </a:br>
            <a:r>
              <a:rPr b="0" lang="en-US" sz="4800" spc="-1" strike="noStrike">
                <a:solidFill>
                  <a:srgbClr val="001b1a"/>
                </a:solidFill>
                <a:latin typeface="Agency FB"/>
              </a:rPr>
              <a:t>7 класс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Прямоугольник 4"/>
          <p:cNvSpPr/>
          <p:nvPr/>
        </p:nvSpPr>
        <p:spPr>
          <a:xfrm>
            <a:off x="4214880" y="5715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втор Гречухина Наталья Васильев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учитель биологии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Алексеевская СОШ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900000" y="189000"/>
            <a:ext cx="6912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оверь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000" y="1989000"/>
            <a:ext cx="7848360" cy="28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- б, в, г, д, с, и, м, н, п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2- и, л, н, о, п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3- а, е, ж, и, к, н, р, с, 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1042920" y="189000"/>
            <a:ext cx="69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708000" y="1844640"/>
            <a:ext cx="152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Сравните круглых и плоских червей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1332000" y="836640"/>
            <a:ext cx="648000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У вас должно получитьс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11280" y="1988640"/>
            <a:ext cx="411480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- г, е, ж, 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– б, д, з, и, 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-  а, 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87854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Если у тебя такие ответы, то ты </a:t>
            </a:r>
            <a:r>
              <a:rPr b="0" lang="en-US" sz="4000" spc="-1" strike="noStrike">
                <a:solidFill>
                  <a:srgbClr val="f76031"/>
                </a:solidFill>
                <a:latin typeface="Tahoma"/>
              </a:rPr>
              <a:t>МОЛОДЕЦ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08360" y="1844640"/>
            <a:ext cx="13780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Д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Ж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Выберите правильные су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2"/>
          <a:stretch/>
        </p:blipFill>
        <p:spPr>
          <a:xfrm>
            <a:off x="1476360" y="1125360"/>
            <a:ext cx="61912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Моллюски</a:t>
            </a:r>
            <a:br>
              <a:rPr sz="2400"/>
            </a:br>
            <a:r>
              <a:rPr b="0" lang="en-US" sz="44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634920" y="1844640"/>
            <a:ext cx="1235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еречислите типы беспозвоночных животных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68360" y="1844640"/>
            <a:ext cx="48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Губ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ишечнополостны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Плоски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ругл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Кольчатые черв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Моллюс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Иглокож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Тип Членистоноги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Иглокожие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Из перечисленных признаков  выбрать те, которые характеризуют тип иглокожих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двусторонняя симметр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лучевая симметрия   </a:t>
            </a: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известковый скелет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хрящевой скеле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кровеносн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водно-сосудистая систем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Регенерация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система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ищеварительная полость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ервная система сетчат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нёрвная система узлового тип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стрекательные клетк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подош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щупальца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пресны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обитатели морских водоемов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3380400" y="18446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297240" y="211284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4099680" y="2997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2659680" y="335772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4172760" y="3645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4748760" y="458136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Rectangle 10"/>
          <p:cNvSpPr/>
          <p:nvPr/>
        </p:nvSpPr>
        <p:spPr>
          <a:xfrm>
            <a:off x="4460040" y="6093000"/>
            <a:ext cx="326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6031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31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971640" y="620640"/>
            <a:ext cx="720072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как ты ответил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79640" y="1916280"/>
            <a:ext cx="1306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Б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Е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К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9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2"/>
          <a:stretch/>
        </p:blipFill>
        <p:spPr>
          <a:xfrm>
            <a:off x="1476360" y="620640"/>
            <a:ext cx="590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Паукообразн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662616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2000"/>
            </a:br>
            <a:r>
              <a:rPr b="0" lang="en-US" sz="3600" spc="-1" strike="noStrike">
                <a:solidFill>
                  <a:srgbClr val="1b0701"/>
                </a:solidFill>
                <a:latin typeface="Tahoma"/>
              </a:rPr>
              <a:t>Правильные ответы</a:t>
            </a:r>
            <a:r>
              <a:rPr b="0" lang="en-US" sz="2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708360" y="1413000"/>
            <a:ext cx="1378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Ж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И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31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6308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Соотнесите ротовые органы насекомых с их хозяев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2"/>
          <a:stretch/>
        </p:blipFill>
        <p:spPr>
          <a:xfrm>
            <a:off x="2124000" y="907920"/>
            <a:ext cx="51120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332000" y="914400"/>
            <a:ext cx="633564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1b0701"/>
                </a:solidFill>
                <a:latin typeface="Tahoma"/>
              </a:rPr>
              <a:t>Проверь себ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1" name="Picture 5" descr=""/>
          <p:cNvPicPr/>
          <p:nvPr/>
        </p:nvPicPr>
        <p:blipFill>
          <a:blip r:embed="rId2"/>
          <a:stretch/>
        </p:blipFill>
        <p:spPr>
          <a:xfrm>
            <a:off x="826920" y="1268280"/>
            <a:ext cx="734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r>
              <a:rPr b="0" lang="en-US" sz="2800" spc="-1" strike="noStrike">
                <a:solidFill>
                  <a:srgbClr val="1b0701"/>
                </a:solidFill>
                <a:latin typeface="Tahoma"/>
              </a:rPr>
              <a:t>Выберите правильные утверждения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2"/>
          <a:stretch/>
        </p:blipFill>
        <p:spPr>
          <a:xfrm>
            <a:off x="1619280" y="1268280"/>
            <a:ext cx="590544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5661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Подпишите названия изображённых животных. </a:t>
            </a:r>
            <a:br>
              <a:rPr sz="2400"/>
            </a:br>
            <a:r>
              <a:rPr b="0" lang="en-US" sz="2400" spc="-1" strike="noStrike">
                <a:solidFill>
                  <a:srgbClr val="001b1a"/>
                </a:solidFill>
                <a:latin typeface="Tahoma"/>
              </a:rPr>
              <a:t>К какому типу их относят?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908000" y="189000"/>
            <a:ext cx="568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Тип Членистоноги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 Класс Насекомые</a:t>
            </a:r>
            <a:br>
              <a:rPr sz="1800"/>
            </a:br>
            <a:r>
              <a:rPr b="0" lang="en-US" sz="1800" spc="-1" strike="noStrike">
                <a:solidFill>
                  <a:srgbClr val="e5ffff"/>
                </a:solidFill>
                <a:latin typeface="Tahoma"/>
              </a:rPr>
              <a:t>Главные отряды насекомых</a:t>
            </a:r>
            <a:br>
              <a:rPr sz="1800"/>
            </a:br>
            <a:endParaRPr b="0" lang="en-US" sz="1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24360" y="1916280"/>
            <a:ext cx="1162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76360" y="11970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b0701"/>
                </a:solidFill>
                <a:latin typeface="Tahoma"/>
              </a:rPr>
              <a:t>Правильные утверж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76031"/>
                </a:solidFill>
                <a:latin typeface="Tahoma"/>
              </a:rPr>
              <a:t>Желаю удачи на контрольной работе!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1116000" y="1413000"/>
            <a:ext cx="6697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58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57345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Monotype Corsiva"/>
              </a:rPr>
              <a:t>До новых встреч!</a:t>
            </a:r>
            <a:endParaRPr b="1" lang="en-US" sz="1800" spc="1" strike="noStrike">
              <a:ln w="158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57345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109" name="Picture 3" descr="dancapinguins01"/>
          <p:cNvPicPr/>
          <p:nvPr/>
        </p:nvPicPr>
        <p:blipFill>
          <a:blip r:embed="rId2"/>
          <a:stretch/>
        </p:blipFill>
        <p:spPr>
          <a:xfrm>
            <a:off x="1835280" y="2421000"/>
            <a:ext cx="574020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4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0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1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2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3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4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75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6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7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Выберите правильные утверждения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2"/>
          <a:stretch/>
        </p:blipFill>
        <p:spPr>
          <a:xfrm>
            <a:off x="1116000" y="1125360"/>
            <a:ext cx="705636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1b1a"/>
                </a:solidFill>
                <a:latin typeface="Tahoma"/>
              </a:rPr>
              <a:t>Правильные утверждения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2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4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6 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7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1b1a"/>
                </a:solidFill>
                <a:latin typeface="Tahoma"/>
              </a:rPr>
              <a:t>Соотнесите название типа клеток с их функциями у кишечнополостных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8136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Проверьте себ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ctr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Ж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5ffff"/>
                </a:solidFill>
                <a:latin typeface="Tahoma"/>
              </a:rPr>
              <a:t>Внешнее и внутреннее строение плоских червей</a:t>
            </a:r>
            <a:br>
              <a:rPr sz="2400"/>
            </a:br>
            <a:r>
              <a:rPr b="0" lang="en-US" sz="3600" spc="-1" strike="noStrike">
                <a:solidFill>
                  <a:srgbClr val="001b1a"/>
                </a:solidFill>
                <a:latin typeface="Tahoma"/>
              </a:rPr>
              <a:t>Заполните таблицу, поставив знаки +, если признак есть и -, если нет.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1332000" y="1700280"/>
            <a:ext cx="6264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1b1a"/>
                </a:solidFill>
                <a:latin typeface="Tahoma"/>
              </a:rPr>
              <a:t>Правильные ответ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86421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17:33:33Z</dcterms:created>
  <dc:creator>Пользователь</dc:creator>
  <dc:description/>
  <dc:language>en-US</dc:language>
  <cp:lastModifiedBy>Василий</cp:lastModifiedBy>
  <dcterms:modified xsi:type="dcterms:W3CDTF">2011-03-04T17:06:56Z</dcterms:modified>
  <cp:revision>7</cp:revision>
  <dc:subject/>
  <dc:title>Обобщающий урок  по теме  «Беспозвоночные животные» 7 класс</dc:title>
</cp:coreProperties>
</file>